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E101-D96F-4846-BC22-96400245AB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5FFD-BCDD-47EF-8EE2-CFB77BDF46C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834-FC74-4305-960C-94C29640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9B1-AD57-4980-9160-CC3AC239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9A3-8B01-44B4-929A-8BF75A7C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607-0706-4904-88A2-1730E44E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80CE-8FD8-4A9E-853B-85112EF9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F408-AB01-414C-9552-B9DA957E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241E-8FC1-4373-93AC-99E8A531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E8C6-6CE7-4E56-88C8-F9615D09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54D0-D987-42A9-BFF0-D80EE314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3B1F-52B8-4893-A7B0-0E3BD16F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7874-7402-4413-B716-8BB88BDD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5EC-4868-426A-8793-92D05D56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C2A1-DE28-4507-8863-1AD846C2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EBA9-A9BA-4537-A4F1-C57E941F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18FA-2E8B-4FE0-9D9A-AE2C401C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12D1-B2F2-49B7-B74F-11AB6550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1E0B-9F49-466C-9A33-245DE172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99D-A1B2-4B42-8732-22A207DD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3BF-4087-4D6B-B683-9D3460B9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047-B480-400D-B022-40F6520B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0AE-AC49-4C2F-B0CB-5F62D9A2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0F5-36F5-4702-BBB8-EA528593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83C-1289-4558-B335-2ADED089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1D0-4AFA-4427-8BEA-D53DBDC9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E079-BB76-4C41-8B12-50C9F55A69F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48F3-D4CE-4322-8C57-0E4CDDD2E39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6840" y="1599840"/>
            <a:ext cx="79311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оружие массового поражения, действие которого основано на токсических свойствах химических вещест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5589720"/>
            <a:ext cx="40388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6" descr="люизит.png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324160"/>
          </a:xfrm>
          <a:prstGeom prst="rect">
            <a:avLst/>
          </a:prstGeom>
          <a:ln w="0">
            <a:noFill/>
          </a:ln>
        </p:spPr>
      </p:pic>
      <p:pic>
        <p:nvPicPr>
          <p:cNvPr id="11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619280" y="1599840"/>
            <a:ext cx="734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жно-нарывное действ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ханизм кожно-нарывного действия люизита связан с разрушением клеточных структур. Действуя в капельно-жидком состоянии люизит быстро проникает в толщу кожи (3-5 мин). Скрытый период практически отсутствует. Сразу развиваются признаки поражения: ощущается боль, жжение на месте воздействия. Затем проявляются воспалительные изменения кожи, выраженность которых определяет степень тяжести поражения. Лёгкое поражение характеризуется наличием болезненной эритемы. Поражение средней степени приводит к образованию поверхностного пузыря. Последний быстро вскрывается. Эрозивная поверхность эпителизуется в течение нескольких недель. Тяжелое поражение — это глубокая, длительно незаживающая язва. При поражении кожи парами люизита наблюдается скрытый период продолжительностью 4-6 ч., за которым следует период разлитой эритемы, прежде всего на открытых участках кожи. Действуя в высоких концентрациях, вещество может вызывать развитие поверхностных пузырей. Заживление в среднем 8-15 дн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щита от по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щита от поражающего действия люизита достигается применением современных противогазов и специальных защитных костюм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равляющие вещества общеядовитого действия. Попадая в организм, они нарушают передачу кислорода из крови к тканям. Это одни из самых быстродействующих ОВ. К ним относятся синильная кислота и хлорциа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инильная (цианистая) кислота́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цианистый водород, циановодород, нитрил муравьиной кислот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) — неорганическое соединение, представляющее собой бесцветную легкоподвижную жидкость с запахом горького миндал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инильная кислота действует на 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рвную систем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ыхательную систем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ердечно-сосудистую систем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зменения в системе кров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920" y="2205000"/>
            <a:ext cx="30355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ВОДНЫЕ РАКЕТОНОСЦ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12000" y="1341360"/>
            <a:ext cx="2087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И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Содержимое 9" descr="подводная лодка.jpg"/>
          <p:cNvPicPr/>
          <p:nvPr/>
        </p:nvPicPr>
        <p:blipFill>
          <a:blip r:embed="rId2"/>
          <a:stretch/>
        </p:blipFill>
        <p:spPr>
          <a:xfrm>
            <a:off x="55440" y="3292560"/>
            <a:ext cx="4613400" cy="341928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10" descr="самолет.jpg"/>
          <p:cNvPicPr/>
          <p:nvPr/>
        </p:nvPicPr>
        <p:blipFill>
          <a:blip r:embed="rId3"/>
          <a:stretch/>
        </p:blipFill>
        <p:spPr>
          <a:xfrm>
            <a:off x="4595760" y="2352600"/>
            <a:ext cx="4408560" cy="335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6" descr=""/>
          <p:cNvPicPr/>
          <p:nvPr/>
        </p:nvPicPr>
        <p:blipFill>
          <a:blip r:embed="rId1"/>
          <a:stretch/>
        </p:blipFill>
        <p:spPr>
          <a:xfrm>
            <a:off x="371520" y="2462040"/>
            <a:ext cx="868032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равляющие вещества кожно-нарывного действ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равляющие вещества общеядовитого действ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равляющие вещества нервно-паралитического действ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01760" y="96840"/>
            <a:ext cx="8431200" cy="144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равляющие вещества нервно-паралитического действия, воздействующие на центральную нервную систему. Целью применения ОВ нервно-паралитического воздействия является быстрый и массовый вывод личного состава из строя с возможно большим числом смертельных исходов. К отравляющим веществам этой группы относятся зарин, зоман, табун и V-га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рин — боевое отравляющее вещество нервно-паралитического действия. Химическое название: изопропиловый эфир фторангидрида метилфосфоновой кисло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щита от пора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щита от поражающего действия зарина достигается применением современных противогазов и специальных защитных костюм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зоман.png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23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"/>
          <p:cNvSpPr txBox="1"/>
          <p:nvPr/>
        </p:nvSpPr>
        <p:spPr>
          <a:xfrm>
            <a:off x="971280" y="2060640"/>
            <a:ext cx="7715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Зоман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— бесцветная и имеющая слабый запах скошенного сена жидкость. Боевое отравляющее вещество нервно-паралитического действия. По многим свойствам очень похож на зарин, однако гораздо более (в 2,5 раза) токсичен. Стойкость зомана несколько выше, чем у зарин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ервые признаки поражения наблюдаются при концентрациях около 0,0005 мг/л через минуту (сужение зрачков глаз, затруднение дыхания). Среднесмертельная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нцентрация при действии через органы дыхания 0,03 мг·мин/л. Смертельная концентрация при резорбции через кожу — 2 мг/кг. Защита от зомана — противогаз и средства защиты кожи, а также антидоты. Впервые синтезирован в Германии в 1944 году для использования в качестве ОВ. Как антидот применяется атропин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4" descr="табун.png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538360"/>
          </a:xfrm>
          <a:prstGeom prst="rect">
            <a:avLst/>
          </a:prstGeom>
          <a:ln w="0">
            <a:noFill/>
          </a:ln>
        </p:spPr>
      </p:pic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6840" y="1699920"/>
            <a:ext cx="8002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абун — нервно-паралитическое отравляющее вещество (ОВ). Смертельная концентрация табуна в воздухе 0,4 мг/л (1 мин), при попадании на кожу в жидком виде — 50-70 мг/кг; в концентрации 0,01 мг/л (2 мин) табун вызывает сильный миоз (сужение зрачка). Защитой от табуна служит противогаз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абун впервые был получен перед Второй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 мировой войной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но боевого применения не получи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V-газы (V-агенты) VE, VG, VM, VX, VP, VS,VR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EA-3148 — группа нервно-паралитических ОВ (отравляющих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ществ), разработанных в 50-х годах XX века. Представляют собой малолетучие жидкости с высокой температурой кипения, поэтому стойкость их в несколько раз выше, чем стойкость зар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V-газы в десятки раз токсичнее других ОВ нервно-паралитического действия. Отличаются высокой эффективностью при действии через кожные покровы. Так, для самого известного из серии V-агентов — VX — Среднесмертельная концентрация при действии через органы дыхания составляет 0.01 мг•мин/л (период скрытого действия 5 — 10 минут), среднесмертельная доза при резорбции через кожу — 0.1 мг/к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равляющие вещества кожно-нарывного действия. Они наносят поражение главным образом через кожные покровы, а при применении их в виде аэрозолей и паров — также и через органы дыхания. Основные отравляющие вещества — иприт, люиз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5" descr="иприт.jpg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441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84000" y="2349360"/>
            <a:ext cx="80024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прит воздействует на организм человека несколькими способам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разрушение межклеточных мембра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-нарушение обмена углевод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-«вырывание» азотистых оснований из ДНК и РН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прит обладает поражающим действием при любых путях проникновения в организм. Поражения слизистых оболочек глаз, носоглотки и верхних дыхательных путей проявляются даже при незначительных концентрациях иприта. При более высоких концентрациях наряду с местными поражениями происходит общее отравление организма. Иприт имеет скрытый период действия (2—8 ч) и обладает кумулятивност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1:07:00Z</dcterms:created>
  <dc:creator>Андрей</dc:creator>
  <dc:description/>
  <dc:language>en-US</dc:language>
  <cp:lastModifiedBy>СтасbI4</cp:lastModifiedBy>
  <dcterms:modified xsi:type="dcterms:W3CDTF">2010-12-07T16:08:09Z</dcterms:modified>
  <cp:revision>19</cp:revision>
  <dc:subject/>
  <dc:title>Слайд 1</dc:title>
</cp:coreProperties>
</file>